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9F02-4F3B-479D-A601-34F2B0D82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D0F8-F112-4D00-8AC4-D8BB57358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F061-CCCA-44EC-960C-0F7436C48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BCE8-5454-48CE-AAC5-492960F35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6AE535-B20F-400B-B43C-5F7FD3220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6E83A6-EBB0-4CE9-ACD0-CE97A0C8A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6D5194-15B8-4794-9AB1-275E3BC20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D886D8-ADCC-46F5-AE2A-D1978E1B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28FF7F-B12D-4FAA-87EA-837F95121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04F868-5971-4200-81ED-BF6C9C80C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D35779-6BE8-4AEC-8C3C-84B7A914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55BA-A803-4003-97C5-08060B4A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488E7F-78EF-4F7D-83B0-84C2F8FE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A1A758-32B0-484D-9A47-D7A13ABD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DED6E3-CDB5-488B-AA33-32B16C7C5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D21F58-E9BD-46E5-8356-D14D75793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E649D7-D5DA-4964-B2BC-BC77A8D88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D0C2D-A384-4301-93AA-2787EF2E5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0BCE8-A747-46FE-8FB6-F34BBEB84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3E52E-FAB8-4069-8B41-8EBEC4870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E126A-37FE-40CE-A17E-3A17002A5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CFE17-5F5E-4A4F-AB79-12F404B1F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3D98-CE5D-4C6E-A35B-8B0E1FC80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D2BD4-5EFA-47EB-AB7A-5277CEC43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2BA04-D163-4146-A84A-F7364774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3883D-5C9C-4609-BF12-E08A9144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1A8AB-69C1-4F31-8BA5-7CC278AC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A9B6B-52AF-4C15-84CD-89C996C43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7D388-5B3B-4703-9213-1D9928B9C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90CBA-16B5-41DA-B64C-4C5954DC1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61D2AD-F5B9-4DE0-A1B0-E2DB691BC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B981F3-65AC-4097-BB37-3F3D950ED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FF3BF1-88E2-45E2-9268-961A4A8DA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4996-22A0-4ACF-B0AB-AA6925CF7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46B1EA-7C3B-4A8A-8810-57DCA9F21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B20775-DC01-4D69-8E2E-D9F0F3BF1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0F7DFA-114B-47F8-9EFE-49B7EB12A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522A6F-CA44-4024-9C00-38277676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4D3155-D963-46FD-8B9E-0BB903EB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AD17BE-8E3A-43A4-BD52-D18AAAC5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0BC358-1929-4968-BA2B-41C52AC11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1D1F46-A24E-467B-BBB2-B428BC1B1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E3FC14-1346-4417-8961-B9D023773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5FEC2C-9E36-4CBD-998F-B5E15D5BB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BE78-EF4E-4362-9FDD-3C02F65B6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080C2C-2FD0-435F-8F88-1C7E4DFE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411470-0D94-4A83-BB23-FDB8D516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C80AAE-8FD6-4ECA-8BCB-5652A9A4A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C1D20F-772D-4A75-8C8E-E37D2BC5C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E7CC5D-271E-4D67-B261-1C548FFF1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5D7D70-965F-45DF-8A03-1B4DEDB6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3B035E-B2E9-4E99-BC98-4A76E5B5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AE1A30-6F21-4FC2-8DEE-6F06BF51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4D5C84-28A8-449A-BE1C-A7267997C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AD5E4A-D669-4FA9-B9EC-7F99C32C3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52F7-66BD-44A2-93D5-2A14F9CB7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6C2F7D-9AA8-40C0-AB59-8D7597567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5B15C5-EEA3-4F4C-8154-CD7FC9AF9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E5657F-AB38-4554-B6E4-2C59AE81C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8C39EB-372D-417C-9F93-352D4FDBA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314CED-8441-4B9B-A67D-71E07132B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14491D-C2C2-417A-B590-5D057003B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8E8F37-613A-40F3-8F7C-1D35D6A5F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6134E7-BC6A-4DDE-B195-1B1C03CE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B0A53D-3042-43C2-8C40-524F3CCC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EFFD3D-40DD-4D53-AAAD-6136E14F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9E88-6252-4F92-9433-5C673D86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2CBCAB-AACD-4256-A2CD-250C9FC19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A50348-7DC4-46C1-8246-026CD7A42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604735-645D-47ED-8FAE-3531AD89E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D940-B845-44A8-98BB-19E7A869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B233-4CAA-43A3-BD16-CDFD0A91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1BBAE-2134-4728-AFCA-2704F514EEB3}" type="slidenum">
              <a:rPr b="0" lang="en-US" sz="16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7ea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7ea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009dd9"/>
          </a:solidFill>
          <a:ln w="38160">
            <a:solidFill>
              <a:srgbClr val="009dd9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E370B-D944-4041-BEB4-5AE60FBB7D6D}" type="slidenum">
              <a:rPr b="0" lang="en-US" sz="16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70060-4008-41BC-B4A6-620E9BB2C799}" type="slidenum">
              <a:rPr b="0" lang="en-US" sz="16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7ea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7ea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D5C7C-B539-47C8-A646-CCBE8A30983A}" type="slidenum">
              <a:rPr b="0" lang="en-US" sz="16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A45B7-755E-4C26-BED6-92C96AD32655}" type="slidenum">
              <a:rPr b="0" lang="en-US" sz="16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862CB-24D5-4661-9986-0092E1EE5B24}" type="slidenum">
              <a:rPr b="0" lang="en-US" sz="16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571320" y="4429080"/>
            <a:ext cx="830556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b5395"/>
                </a:solidFill>
                <a:uFillTx/>
                <a:latin typeface="Comic Sans MS"/>
              </a:rPr>
              <a:t>Выполнили:</a:t>
            </a:r>
            <a:r>
              <a:rPr b="1" lang="ru-RU" sz="2200" spc="-1" strike="noStrike">
                <a:solidFill>
                  <a:srgbClr val="03495c"/>
                </a:solidFill>
                <a:latin typeface="Comic Sans MS"/>
              </a:rPr>
              <a:t> </a:t>
            </a:r>
            <a:r>
              <a:rPr b="1" lang="ru-RU" sz="2200" spc="-1" strike="noStrike">
                <a:solidFill>
                  <a:srgbClr val="800080"/>
                </a:solidFill>
                <a:latin typeface="Comic Sans MS"/>
              </a:rPr>
              <a:t>Кузьмина А.М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80"/>
                </a:solidFill>
                <a:latin typeface="Comic Sans MS"/>
              </a:rPr>
              <a:t>Кочанова М.В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80"/>
                </a:solidFill>
                <a:latin typeface="Comic Sans MS"/>
              </a:rPr>
              <a:t>Гусева Н.В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80"/>
                </a:solidFill>
                <a:latin typeface="Comic Sans MS"/>
              </a:rPr>
              <a:t>Пименова М.И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3" name=""/>
          <p:cNvSpPr/>
          <p:nvPr/>
        </p:nvSpPr>
        <p:spPr>
          <a:xfrm>
            <a:off x="1258920" y="1268280"/>
            <a:ext cx="6913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4617b"/>
                </a:solidFill>
                <a:latin typeface="Comic Sans MS"/>
              </a:rPr>
              <a:t>Кодирование графической информации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826920" y="1268280"/>
            <a:ext cx="6769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c062c"/>
                </a:solidFill>
                <a:latin typeface="Comic Sans MS"/>
              </a:rPr>
              <a:t>Цель: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b5395"/>
                </a:solidFill>
                <a:latin typeface="Comic Sans MS"/>
              </a:rPr>
              <a:t>изучить особенности и способы освоения умений кодировать графическую информацию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Заголовок 2" descr=""/>
          <p:cNvPicPr/>
          <p:nvPr/>
        </p:nvPicPr>
        <p:blipFill>
          <a:blip r:embed="rId2"/>
          <a:stretch/>
        </p:blipFill>
        <p:spPr>
          <a:xfrm>
            <a:off x="781200" y="85680"/>
            <a:ext cx="7924680" cy="65707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357120" y="2285640"/>
            <a:ext cx="8586720" cy="31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omic Sans MS"/>
              </a:rPr>
              <a:t>Кодирование информации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800080"/>
                </a:solidFill>
                <a:latin typeface="Comic Sans MS"/>
              </a:rPr>
              <a:t>– создание изображений с помощью графических средств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omic Sans MS"/>
              </a:rPr>
              <a:t>Графические средства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d0d0d"/>
                </a:solidFill>
                <a:latin typeface="Comic Sans MS"/>
              </a:rPr>
              <a:t>– </a:t>
            </a:r>
            <a:r>
              <a:rPr b="1" lang="en-US" sz="3200" spc="-1" strike="noStrike">
                <a:solidFill>
                  <a:srgbClr val="800080"/>
                </a:solidFill>
                <a:latin typeface="Comic Sans MS"/>
              </a:rPr>
              <a:t>это то, с помощью чего создаются графические изображения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7" name="Заголовок 2" descr=""/>
          <p:cNvPicPr/>
          <p:nvPr/>
        </p:nvPicPr>
        <p:blipFill>
          <a:blip r:embed="rId2"/>
          <a:stretch/>
        </p:blipFill>
        <p:spPr>
          <a:xfrm>
            <a:off x="566640" y="4935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80"/>
                </a:solidFill>
                <a:latin typeface="Comic Sans MS"/>
              </a:rPr>
              <a:t>Осуществление основных графических операций от руки и с использованием чертежных инструментов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80"/>
                </a:solidFill>
                <a:latin typeface="Comic Sans MS"/>
              </a:rPr>
              <a:t>Построение графических изображений по образцу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80"/>
                </a:solidFill>
                <a:latin typeface="Comic Sans MS"/>
              </a:rPr>
              <a:t>Создание изобразительной конструкции, модел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80"/>
                </a:solidFill>
                <a:latin typeface="Comic Sans MS"/>
              </a:rPr>
              <a:t>Осуществление основных графических операций и графических изображений с помощью циркул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9" name="Заголовок 2" descr=""/>
          <p:cNvPicPr/>
          <p:nvPr/>
        </p:nvPicPr>
        <p:blipFill>
          <a:blip r:embed="rId2"/>
          <a:stretch/>
        </p:blipFill>
        <p:spPr>
          <a:xfrm>
            <a:off x="450720" y="23760"/>
            <a:ext cx="8242560" cy="1354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"/>
          <p:cNvGraphicFramePr/>
          <p:nvPr/>
        </p:nvGraphicFramePr>
        <p:xfrm>
          <a:off x="357120" y="1000080"/>
          <a:ext cx="8229600" cy="54468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44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c062c"/>
                          </a:solidFill>
                          <a:latin typeface="Comic Sans MS"/>
                        </a:rPr>
                        <a:t>1.Осуществление основных графических операций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 u="sng">
                          <a:solidFill>
                            <a:srgbClr val="800080"/>
                          </a:solidFill>
                          <a:uFillTx/>
                          <a:latin typeface="Comic Sans MS"/>
                        </a:rPr>
                        <a:t>а)Построение от ру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2303e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2303e"/>
                          </a:solidFill>
                          <a:latin typeface="Comic Sans MS"/>
                        </a:rPr>
                        <a:t>Соединение точек линиям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2303e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2303e"/>
                          </a:solidFill>
                          <a:latin typeface="Comic Sans MS"/>
                        </a:rPr>
                        <a:t>Штрихов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2303e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2303e"/>
                          </a:solidFill>
                          <a:latin typeface="Comic Sans MS"/>
                        </a:rPr>
                        <a:t>Построение дороже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2303e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2303e"/>
                          </a:solidFill>
                          <a:latin typeface="Comic Sans MS"/>
                        </a:rPr>
                        <a:t>Построение дороже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2303e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2303e"/>
                          </a:solidFill>
                          <a:latin typeface="Comic Sans MS"/>
                        </a:rPr>
                        <a:t>Построение композиций и звеньев разных тип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2303e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2303e"/>
                          </a:solidFill>
                          <a:latin typeface="Comic Sans MS"/>
                        </a:rPr>
                        <a:t>Построение композиций из фигу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 u="sng">
                          <a:solidFill>
                            <a:srgbClr val="800080"/>
                          </a:solidFill>
                          <a:uFillTx/>
                          <a:latin typeface="Comic Sans MS"/>
                        </a:rPr>
                        <a:t>б)Построение с использованием инструмент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2303e"/>
                        </a:buClr>
                        <a:buSzPct val="85000"/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2303e"/>
                          </a:solidFill>
                          <a:latin typeface="Comic Sans MS"/>
                        </a:rPr>
                        <a:t>Соединение точек линиям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2303e"/>
                        </a:buClr>
                        <a:buSzPct val="85000"/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2303e"/>
                          </a:solidFill>
                          <a:latin typeface="Comic Sans MS"/>
                        </a:rPr>
                        <a:t>Построение линий с помощью линейк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2303e"/>
                        </a:buClr>
                        <a:buSzPct val="85000"/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2303e"/>
                          </a:solidFill>
                          <a:latin typeface="Comic Sans MS"/>
                        </a:rPr>
                        <a:t>Построение окружностей и дуг с помощью циркул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2303e"/>
                        </a:buClr>
                        <a:buSzPct val="85000"/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2303e"/>
                          </a:solidFill>
                          <a:latin typeface="Comic Sans MS"/>
                        </a:rPr>
                        <a:t>Построение композиций из  линий и фигур с помощью шаблонов, трафаретов и т.д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9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c062c"/>
                          </a:solidFill>
                          <a:latin typeface="Comic Sans MS"/>
                        </a:rPr>
                        <a:t>2.Создание изображений с опорой на образец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 u="sng">
                          <a:solidFill>
                            <a:srgbClr val="800080"/>
                          </a:solidFill>
                          <a:uFillTx/>
                          <a:latin typeface="Comic Sans MS"/>
                        </a:rPr>
                        <a:t>а)Полный образе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2303e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2303e"/>
                          </a:solidFill>
                          <a:latin typeface="Comic Sans MS"/>
                        </a:rPr>
                        <a:t>Калька, копировальная бумаг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2303e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2303e"/>
                          </a:solidFill>
                          <a:latin typeface="Comic Sans MS"/>
                        </a:rPr>
                        <a:t>Копирова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2303e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2303e"/>
                          </a:solidFill>
                          <a:latin typeface="Comic Sans MS"/>
                        </a:rPr>
                        <a:t>Обведение по лин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2303e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2303e"/>
                          </a:solidFill>
                          <a:latin typeface="Comic Sans MS"/>
                        </a:rPr>
                        <a:t>Построение изображений с помощью игровизор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 u="sng">
                          <a:solidFill>
                            <a:srgbClr val="800080"/>
                          </a:solidFill>
                          <a:uFillTx/>
                          <a:latin typeface="Comic Sans MS"/>
                        </a:rPr>
                        <a:t>б)Частичный образе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2303e"/>
                        </a:buClr>
                        <a:buSzPct val="85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2303e"/>
                          </a:solidFill>
                          <a:latin typeface="Comic Sans MS"/>
                        </a:rPr>
                        <a:t>По точкам (контур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2303e"/>
                        </a:buClr>
                        <a:buSzPct val="85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2303e"/>
                          </a:solidFill>
                          <a:latin typeface="Comic Sans MS"/>
                        </a:rPr>
                        <a:t>По штриховым линия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2303e"/>
                        </a:buClr>
                        <a:buSzPct val="85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2303e"/>
                          </a:solidFill>
                          <a:latin typeface="Comic Sans MS"/>
                        </a:rPr>
                        <a:t>По клетка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2303e"/>
                        </a:buClr>
                        <a:buSzPct val="85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2303e"/>
                          </a:solidFill>
                          <a:latin typeface="Comic Sans MS"/>
                        </a:rPr>
                        <a:t>С осью симметр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2303e"/>
                        </a:buClr>
                        <a:buSzPct val="85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2303e"/>
                          </a:solidFill>
                          <a:latin typeface="Comic Sans MS"/>
                        </a:rPr>
                        <a:t>По осям координа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2303e"/>
                        </a:buClr>
                        <a:buSzPct val="85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2303e"/>
                          </a:solidFill>
                          <a:latin typeface="Comic Sans MS"/>
                        </a:rPr>
                        <a:t>Продолжение рисунка на осевой закономернос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2303e"/>
                        </a:buClr>
                        <a:buSzPct val="85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2303e"/>
                          </a:solidFill>
                          <a:latin typeface="Comic Sans MS"/>
                        </a:rPr>
                        <a:t>Дорисовывание детале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2303e"/>
                        </a:buClr>
                        <a:buSzPct val="85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2303e"/>
                          </a:solidFill>
                          <a:latin typeface="Comic Sans MS"/>
                        </a:rPr>
                        <a:t>Построение изображений с помощью игровизор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9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c062c"/>
                          </a:solidFill>
                          <a:latin typeface="Comic Sans MS"/>
                        </a:rPr>
                        <a:t>3.Построение изображения по словесной инструкции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 u="sng">
                          <a:solidFill>
                            <a:srgbClr val="800080"/>
                          </a:solidFill>
                          <a:uFillTx/>
                          <a:latin typeface="Comic Sans MS"/>
                        </a:rPr>
                        <a:t>а)Графический диктан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2303e"/>
                        </a:buClr>
                        <a:buSzPct val="85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2303e"/>
                          </a:solidFill>
                          <a:latin typeface="Comic Sans MS"/>
                        </a:rPr>
                        <a:t>На нелиновой бумаг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2303e"/>
                        </a:buClr>
                        <a:buSzPct val="85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2303e"/>
                          </a:solidFill>
                          <a:latin typeface="Comic Sans MS"/>
                        </a:rPr>
                        <a:t>На бумаге в клетк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2303e"/>
                        </a:buClr>
                        <a:buSzPct val="85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2303e"/>
                          </a:solidFill>
                          <a:latin typeface="Comic Sans MS"/>
                        </a:rPr>
                        <a:t>По памя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 u="sng">
                          <a:solidFill>
                            <a:srgbClr val="800080"/>
                          </a:solidFill>
                          <a:uFillTx/>
                          <a:latin typeface="Comic Sans MS"/>
                        </a:rPr>
                        <a:t>б)Изображение стро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2303e"/>
                        </a:buClr>
                        <a:buSzPct val="8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2303e"/>
                          </a:solidFill>
                          <a:latin typeface="Comic Sans MS"/>
                        </a:rPr>
                        <a:t>От руки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2303e"/>
                        </a:buClr>
                        <a:buSzPct val="8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2303e"/>
                          </a:solidFill>
                          <a:latin typeface="Comic Sans MS"/>
                        </a:rPr>
                        <a:t>С помощью инструмент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c062c"/>
                          </a:solidFill>
                          <a:latin typeface="Comic Sans MS"/>
                        </a:rPr>
                        <a:t>4.Создание изображений по замыслу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2303e"/>
                        </a:buClr>
                        <a:buSzPct val="8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2303e"/>
                          </a:solidFill>
                          <a:latin typeface="Comic Sans MS"/>
                        </a:rPr>
                        <a:t>Построение изображений на глаз, от рук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2303e"/>
                        </a:buClr>
                        <a:buSzPct val="8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2303e"/>
                          </a:solidFill>
                          <a:latin typeface="Comic Sans MS"/>
                        </a:rPr>
                        <a:t>С помощью обведения детале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2303e"/>
                        </a:buClr>
                        <a:buSzPct val="8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2303e"/>
                          </a:solidFill>
                          <a:latin typeface="Comic Sans MS"/>
                        </a:rPr>
                        <a:t>С использованием инструментов, шаблонов, трафарет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2303e"/>
                        </a:buClr>
                        <a:buSzPct val="8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2303e"/>
                          </a:solidFill>
                          <a:latin typeface="Comic Sans MS"/>
                        </a:rPr>
                        <a:t>С использованием измер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9fafc"/>
                    </a:solidFill>
                  </a:tcPr>
                </a:tc>
              </a:tr>
            </a:tbl>
          </a:graphicData>
        </a:graphic>
      </p:graphicFrame>
      <p:pic>
        <p:nvPicPr>
          <p:cNvPr id="261" name="Заголовок 2" descr=""/>
          <p:cNvPicPr/>
          <p:nvPr/>
        </p:nvPicPr>
        <p:blipFill>
          <a:blip r:embed="rId2"/>
          <a:stretch/>
        </p:blipFill>
        <p:spPr>
          <a:xfrm>
            <a:off x="-201600" y="85680"/>
            <a:ext cx="9558360" cy="7794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Comic Sans MS"/>
              </a:rPr>
              <a:t>Крупенчук О.И. Готовим руку к письму: Рисуем по клеточкам. – СПб.: Издательский Дом «Литера», 2006. - 64 с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Comic Sans MS"/>
              </a:rPr>
              <a:t>Колесникова Е.В.Геометрические фигуры. Альбом упражнений для детей 5-7 лет. – М.: НОУ Центр Ровесники, 2000. – 24 с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Comic Sans MS"/>
              </a:rPr>
              <a:t>Новикова Е.В. Как подготовить руку ребенка к письму. Комплекс упражнений для тренинга мышц рук у детей. – М.: Гном-Пресс, 2000. – 40 с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Comic Sans MS"/>
              </a:rPr>
              <a:t>Трифонова Н.М. Увлекательные прописи для детей дошкольного возраста: развивающие прописи. – М.: Издатель-Трейд, 2006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Comic Sans MS"/>
              </a:rPr>
              <a:t>Шевелев К.В. Основы геометрии для дошкольников: точки, линии, фигуры. Тестовое задание и упражнения. – М.: Издательство ГНОМ «Д»,2001. – 32 с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Comic Sans MS"/>
              </a:rPr>
              <a:t>И другие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3" name=""/>
          <p:cNvSpPr/>
          <p:nvPr/>
        </p:nvSpPr>
        <p:spPr>
          <a:xfrm>
            <a:off x="1979640" y="333360"/>
            <a:ext cx="53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c062c"/>
                </a:solidFill>
                <a:latin typeface="Comic Sans MS"/>
              </a:rPr>
              <a:t>Литература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3T16:25:21Z</dcterms:created>
  <dc:creator>Evgeniy</dc:creator>
  <dc:description/>
  <dc:language>en-US</dc:language>
  <cp:lastModifiedBy>Serg</cp:lastModifiedBy>
  <dcterms:modified xsi:type="dcterms:W3CDTF">2009-09-25T14:39:54Z</dcterms:modified>
  <cp:revision>18</cp:revision>
  <dc:subject/>
  <dc:title>Кодирование графической информации</dc:title>
</cp:coreProperties>
</file>